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06E0-A4DA-457B-B602-7949D7255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7D20-BA4A-4B23-BCE8-D5A5FDD4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77E8-D2A6-4436-8C65-DA3655514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4FBB-F1B2-47BF-8B4B-6BB7DE2EF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94C3-88BB-4084-A96E-C19F7EA3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8E5C-1AD2-4711-AF22-FB9E116A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B0A6-6A12-46C3-9C0F-C5887618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7996-DD7E-4D04-B731-E472B48C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550C-A09B-4D82-B888-CC48F9D8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8EA1-1590-4389-A2E1-CBDFB979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5826-4B15-478C-AA88-D9C9936A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7A1E-ABE7-417B-AB17-7CD9AC1E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4626-5CF0-49AE-8EBD-AE3BEFC8A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1040" y="3048120"/>
            <a:ext cx="8440560" cy="150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a9121"/>
                </a:solidFill>
                <a:latin typeface="Trebuchet MS"/>
              </a:rPr>
              <a:t>Adult and Child survey!</a:t>
            </a:r>
            <a:br>
              <a:rPr sz="4800"/>
            </a:br>
            <a:r>
              <a:rPr b="0" lang="en-US" sz="4800" spc="-1" strike="noStrike">
                <a:solidFill>
                  <a:srgbClr val="6a9121"/>
                </a:solidFill>
                <a:latin typeface="Trebuchet MS"/>
              </a:rPr>
              <a:t>bias que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da39"/>
                </a:solidFill>
                <a:latin typeface="Trebuchet MS"/>
              </a:rPr>
              <a:t>by Andrey Treyako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60948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Questions (1-6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0720" y="1828800"/>
            <a:ext cx="9258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Is it true that men are braver then women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Is it true that girls are smater then bo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.Do boys have better hair then girl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.Are boys stronger then girls physically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.Are boys better then girls in sport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6.Do boys run slower then girl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Questions (7-10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2200320"/>
            <a:ext cx="424152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7.Do girls attract more people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8.Are girls better at teaching children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9.Are men always taller then women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0.Are women nicer then men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149800" y="5527800"/>
          <a:ext cx="147600" cy="36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49800" y="5527800"/>
                    <a:ext cx="147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762120" y="2201760"/>
          <a:ext cx="8636040" cy="457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01760"/>
                    <a:ext cx="863604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Vanessa Collier</cp:lastModifiedBy>
  <dcterms:modified xsi:type="dcterms:W3CDTF">2010-04-13T18:21:45Z</dcterms:modified>
  <cp:revision>5</cp:revision>
  <dc:subject/>
  <dc:title>PowerPoint Presentation</dc:title>
</cp:coreProperties>
</file>